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7BC-563D-4824-9054-FC1EC41E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341-8AE1-4101-9FC9-AB210C5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E6A-F9A9-47C3-923E-1D5FC3EE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4A6-DB93-49BE-9BBC-7D32312F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EA5B-653A-4F25-B041-485245F3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6514-9380-4ABA-96DF-1731FE69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B8A4-5C85-4817-A93F-3792DCC5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D1F1-9DFB-4FB9-B42E-B0AD3F6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127-B6AA-4E82-B549-E4E93F0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4122-1072-47BE-9A9F-659C8F0D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DAE8-744F-4C89-936D-7C6B8859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BDA-8282-4475-BC6F-31429F9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A8C-3D5F-4A4D-977E-1923FC7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67CE-B6F1-49E5-80BC-415E1F0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A8D-9437-4614-9388-2AFA26A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78E-A67C-45A4-874C-3F044C5E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2F34-2761-462E-8394-72E52D77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B05-602D-44AD-BA6E-D0C41FD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F07-FDE5-414C-942C-00DCD453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D26-C0B3-408D-AFFB-5D8172E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E44-2E0C-46EC-9228-8CAAEE64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B4F-A410-4BC6-8B84-119351E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3E1-2F6C-4E32-BC58-06BB8D01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F91-931F-41A6-8117-39C7523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933-9B67-4AFB-A434-9E0ABDDC61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2645-0C65-4DCF-A1FD-E0F0D65250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4944e"/>
                </a:solidFill>
                <a:latin typeface="Arial"/>
              </a:rPr>
              <a:t>Mi Cas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4944e"/>
                </a:solidFill>
                <a:latin typeface="Arial"/>
              </a:rPr>
              <a:t>Por Allie Chrisafide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4496040" cy="2792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0120" y="685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garaj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garaje. Es fabuloso, nuevo, y impresionante. No es Pequeño y vieg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70280" cy="2808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as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 casa es una casa. Mi Casa es peque</a:t>
            </a:r>
            <a:r>
              <a:rPr b="0" lang="en" sz="2400" spc="-1" strike="noStrike">
                <a:solidFill>
                  <a:srgbClr val="003366"/>
                </a:solidFill>
                <a:latin typeface="Arial"/>
              </a:rPr>
              <a:t>ñ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y magnif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22520" y="3803760"/>
            <a:ext cx="3774960" cy="2217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oc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480024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s una cocin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 cocina es antiguio, bonito, y fabuloso! No es feo y pequeñ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657600" cy="26226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ome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 comedor. Es muy bello, bonito, y viejo. No es moderno y grand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s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a sala. Mi sala es moderna, magnifo, y fabulos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3733920"/>
            <a:ext cx="5486400" cy="266688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bañ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baño! Es grande, moderno, y bello. No es viego y pequeñ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538360"/>
            <a:ext cx="3770280" cy="33717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cuar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un cuarto!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oderno, lujoso, grande, y fabuloso! No es antiguo, viego, y pequeñ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pat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patio! Es muy impresionante, estupendo, y boni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 jard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mi jardin. Es grande, bello, y lujo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452760" cy="350496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3:30Z</dcterms:created>
  <dc:creator>chrisafideisale</dc:creator>
  <dc:description/>
  <dc:language>en-US</dc:language>
  <cp:lastModifiedBy>chrisafideisale</cp:lastModifiedBy>
  <dcterms:modified xsi:type="dcterms:W3CDTF">2013-04-04T15:50:46Z</dcterms:modified>
  <cp:revision>7</cp:revision>
  <dc:subject/>
  <dc:title>Mi Casa</dc:title>
</cp:coreProperties>
</file>